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E79-FE5A-4B51-9EBB-2B1828D2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1B1-1ECC-4678-90B6-804F6170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47F-28ED-4A04-8163-3E9CAD40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5963-6C0C-4F83-8678-8E18D01B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E9B8-56BE-4999-BD23-C37660CF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0F2-7F58-4A5E-9BF5-DB59112D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B346-0655-4095-AA45-5AD715FA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DC4-6DD3-465C-95F4-E49D28E2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0F1-8C7C-495B-BF10-E2F634B6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ED8-FDF5-471A-807F-B2A49DBA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0B2-AE23-4E0A-80E9-A833A268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D12-5DFA-4390-8439-E4885C99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2F9B-1E79-47E1-BCFE-596D027C1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Starting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56360" y="1203480"/>
            <a:ext cx="275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an IDL licence (&gt;5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6391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napol: Customize parameter list (2/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6858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 the appropriate product description file in the ANAPOL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72480" y="685800"/>
            <a:ext cx="2044440" cy="6134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086600" y="4114800"/>
            <a:ext cx="1600200" cy="30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816360" y="679320"/>
            <a:ext cx="5327640" cy="6102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2280" y="4267080"/>
            <a:ext cx="352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ment the lines corresponding to the parameters you are not interested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napol: Customize parameter list (3/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90920" y="838080"/>
            <a:ext cx="6527520" cy="5854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6320" y="1555920"/>
            <a:ext cx="245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meter droplist shows a reduced set of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2000" y="1066680"/>
            <a:ext cx="639108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POLDER product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371600"/>
            <a:ext cx="152388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15000" y="3429000"/>
            <a:ext cx="3181320" cy="2398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6467400" cy="5783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Area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600200"/>
            <a:ext cx="1524240" cy="14479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13560" y="127944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Selection using the mou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13560" y="2193840"/>
            <a:ext cx="230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the numeric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30481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om button allows a more precise area 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819520"/>
            <a:ext cx="91440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480060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owse button (level 1 product only) produces a browse image of the selected 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3048120"/>
            <a:ext cx="91440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4440240" cy="4430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10800000">
            <a:off x="4343400" y="1447560"/>
            <a:ext cx="2286000" cy="457200"/>
          </a:xfrm>
          <a:custGeom>
            <a:avLst/>
            <a:gdLst>
              <a:gd name="textAreaLeft" fmla="*/ 285480 w 2286000"/>
              <a:gd name="textAreaRight" fmla="*/ 2000520 w 2286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320" y="1003320"/>
            <a:ext cx="6453000" cy="5778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Read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276720"/>
            <a:ext cx="91440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447920"/>
            <a:ext cx="8550360" cy="371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utput Log window shows information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ameters that have been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===================================   NON-DIRECTIONAL PARAMETERS  ========================================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Name         Min    Max   Unit   ------ Unvalid ------   ------  Dummy  ------   ------  Satur  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Altitude   36.0 3376.0   meters -35000      0 [ 0.0%]   -32767    100 [ 0.6%]    32767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Solar Azim.  153.0  190.5     deg. -35000      0 [ 0.0%]        0    100 [ 0.6%]   -35000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=====================================  DIRECTIONAL PARAMETERS  ===========================================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Name         Min    Max   Unit   ------ Unvalid ------   ------  Dummy  ------   ------  Satur  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Sol. Zen Angle   38.2   55.3     deg.   -999      0 [ 0.0%]      -99 265796 [54.7%]     -999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View Zen Angle    0.1   70.7     deg.   -999      0 [ 0.0%]      -99 265796 [54.7%]     -999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l. Azim. Ang    0.0  360.0     deg.   -999      0 [ 0.0%]      -99 265796 [54.7%]     -999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_443   -1.9   82.8        % -35000      0 [ 0.0%]   -32767 269188 [55.4%]    32767     78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_565   -3.6   58.7        % -35000      0 [ 0.0%]   -32767 268779 [55.3%]    32767   1068 [ 0.2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_670   -4.1   71.7        % -35000      0 [ 0.0%]   -32767 269148 [55.4%]    32767    205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_865   -1.0   72.9        % -35000      0 [ 0.0%]   -32767 269884 [55.5%]    32767    303 [ 0.1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Pol_443  -64.0    5.7        % -35000      0 [ 0.0%]   -32767 269188 [55.4%]    32767     78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Pol_670  -59.2    5.7        % -35000      0 [ 0.0%]   -32767 269148 [55.4%]    32767    205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Pol_865  -53.6    5.3        % -35000      0 [ 0.0%]   -32767 269884 [55.5%]    32767    303 [ 0.1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3600" y="920880"/>
            <a:ext cx="6459480" cy="5784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Data Visu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05120" y="3505320"/>
            <a:ext cx="3314880" cy="459720"/>
            <a:chOff x="1905120" y="3505320"/>
            <a:chExt cx="3314880" cy="459720"/>
          </a:xfrm>
        </p:grpSpPr>
        <p:sp>
          <p:nvSpPr>
            <p:cNvPr id="76" name=""/>
            <p:cNvSpPr/>
            <p:nvPr/>
          </p:nvSpPr>
          <p:spPr>
            <a:xfrm>
              <a:off x="2587320" y="3505320"/>
              <a:ext cx="2632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Parameter Se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05120" y="35812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676520" y="3886200"/>
            <a:ext cx="5333760" cy="1191240"/>
            <a:chOff x="1676520" y="3886200"/>
            <a:chExt cx="5333760" cy="1191240"/>
          </a:xfrm>
        </p:grpSpPr>
        <p:sp>
          <p:nvSpPr>
            <p:cNvPr id="79" name=""/>
            <p:cNvSpPr/>
            <p:nvPr/>
          </p:nvSpPr>
          <p:spPr>
            <a:xfrm>
              <a:off x="2362320" y="3886200"/>
              <a:ext cx="46479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Selection of one particular sequ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oop through sequence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(Directional parameters onl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396252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42670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0" y="4572000"/>
            <a:ext cx="1523880" cy="5335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1371600"/>
            <a:ext cx="34290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lay geometry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ew Zen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Principal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hase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ff Glint 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320" y="5181480"/>
            <a:ext cx="8534160" cy="459720"/>
            <a:chOff x="76320" y="5181480"/>
            <a:chExt cx="8534160" cy="459720"/>
          </a:xfrm>
        </p:grpSpPr>
        <p:sp>
          <p:nvSpPr>
            <p:cNvPr id="85" name=""/>
            <p:cNvSpPr/>
            <p:nvPr/>
          </p:nvSpPr>
          <p:spPr>
            <a:xfrm>
              <a:off x="76320" y="5181480"/>
              <a:ext cx="1447560" cy="30492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09680" y="5181480"/>
              <a:ext cx="6400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Overlay Ma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with high-resolution option (slow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00200" y="5257800"/>
              <a:ext cx="533520" cy="228600"/>
            </a:xfrm>
            <a:prstGeom prst="leftArrow">
              <a:avLst>
                <a:gd name="adj1" fmla="val 50000"/>
                <a:gd name="adj2" fmla="val 58346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52280" y="5562720"/>
            <a:ext cx="7696440" cy="1054080"/>
            <a:chOff x="152280" y="5562720"/>
            <a:chExt cx="7696440" cy="1054080"/>
          </a:xfrm>
        </p:grpSpPr>
        <p:sp>
          <p:nvSpPr>
            <p:cNvPr id="89" name=""/>
            <p:cNvSpPr/>
            <p:nvPr/>
          </p:nvSpPr>
          <p:spPr>
            <a:xfrm>
              <a:off x="152280" y="5562720"/>
              <a:ext cx="1447920" cy="99036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5791320"/>
              <a:ext cx="518184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 defined scaling, or automatic based on 5%-95% of cumulative histo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5943600"/>
              <a:ext cx="838080" cy="304920"/>
            </a:xfrm>
            <a:prstGeom prst="leftArrow">
              <a:avLst>
                <a:gd name="adj1" fmla="val 50000"/>
                <a:gd name="adj2" fmla="val 68713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09480" y="2971800"/>
            <a:ext cx="6058440" cy="1066680"/>
            <a:chOff x="609480" y="2971800"/>
            <a:chExt cx="6058440" cy="1066680"/>
          </a:xfrm>
        </p:grpSpPr>
        <p:sp>
          <p:nvSpPr>
            <p:cNvPr id="93" name=""/>
            <p:cNvSpPr/>
            <p:nvPr/>
          </p:nvSpPr>
          <p:spPr>
            <a:xfrm>
              <a:off x="609480" y="3581280"/>
              <a:ext cx="129564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06080" y="2971800"/>
              <a:ext cx="4461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ree parameters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composi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276720" y="685800"/>
            <a:ext cx="4421160" cy="825480"/>
            <a:chOff x="3276720" y="685800"/>
            <a:chExt cx="4421160" cy="825480"/>
          </a:xfrm>
        </p:grpSpPr>
        <p:sp>
          <p:nvSpPr>
            <p:cNvPr id="96" name=""/>
            <p:cNvSpPr/>
            <p:nvPr/>
          </p:nvSpPr>
          <p:spPr>
            <a:xfrm>
              <a:off x="3276720" y="762120"/>
              <a:ext cx="1066680" cy="45720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5680" y="685800"/>
              <a:ext cx="32022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sualization re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om for detai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590920" y="5791320"/>
            <a:ext cx="6172200" cy="761760"/>
            <a:chOff x="2590920" y="5791320"/>
            <a:chExt cx="6172200" cy="761760"/>
          </a:xfrm>
        </p:grpSpPr>
        <p:sp>
          <p:nvSpPr>
            <p:cNvPr id="99" name=""/>
            <p:cNvSpPr/>
            <p:nvPr/>
          </p:nvSpPr>
          <p:spPr>
            <a:xfrm>
              <a:off x="2590920" y="5791320"/>
              <a:ext cx="3581640" cy="76176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53440" y="58672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ale and U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Data Analysis (1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54936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single click in the image generates three wind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320" y="289080"/>
            <a:ext cx="8229600" cy="2835000"/>
            <a:chOff x="76320" y="289080"/>
            <a:chExt cx="8229600" cy="2835000"/>
          </a:xfrm>
        </p:grpSpPr>
        <p:sp>
          <p:nvSpPr>
            <p:cNvPr id="106" name=""/>
            <p:cNvSpPr/>
            <p:nvPr/>
          </p:nvSpPr>
          <p:spPr>
            <a:xfrm>
              <a:off x="2133720" y="1387440"/>
              <a:ext cx="6172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shows the physical values of all parameters for the selected pix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76320" y="289080"/>
              <a:ext cx="1990440" cy="283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0" y="2209680"/>
            <a:ext cx="9120240" cy="2442960"/>
            <a:chOff x="0" y="2209680"/>
            <a:chExt cx="9120240" cy="2442960"/>
          </a:xfrm>
        </p:grpSpPr>
        <p:sp>
          <p:nvSpPr>
            <p:cNvPr id="109" name=""/>
            <p:cNvSpPr/>
            <p:nvPr/>
          </p:nvSpPr>
          <p:spPr>
            <a:xfrm>
              <a:off x="0" y="3095640"/>
              <a:ext cx="7162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opens only for standard “directional” products.  It depicts the viewing geometry of successive sequences.  Blue lines indicate phase or scattering angle if the corresponding boxes are check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7086600" y="2209680"/>
              <a:ext cx="2033640" cy="215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60480" y="4648320"/>
            <a:ext cx="9007200" cy="2165400"/>
            <a:chOff x="60480" y="4648320"/>
            <a:chExt cx="9007200" cy="2165400"/>
          </a:xfrm>
        </p:grpSpPr>
        <p:sp>
          <p:nvSpPr>
            <p:cNvPr id="112" name=""/>
            <p:cNvSpPr/>
            <p:nvPr/>
          </p:nvSpPr>
          <p:spPr>
            <a:xfrm>
              <a:off x="3048120" y="4788000"/>
              <a:ext cx="6019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shows the selected parameter as a function of viewing geometry.  The X-axis is either the View Zenith angle, or the phase angle or the off-glint angle.  Negative values are used to distinguish ≠ sequenc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60480" y="4648320"/>
              <a:ext cx="2911320" cy="216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Data Analysis (2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54936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 area selection (with the mouse) opens two wind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5720" y="617220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mages can be saved using the File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320" y="1174680"/>
            <a:ext cx="8839080" cy="2178000"/>
            <a:chOff x="76320" y="1174680"/>
            <a:chExt cx="8839080" cy="2178000"/>
          </a:xfrm>
        </p:grpSpPr>
        <p:sp>
          <p:nvSpPr>
            <p:cNvPr id="120" name=""/>
            <p:cNvSpPr/>
            <p:nvPr/>
          </p:nvSpPr>
          <p:spPr>
            <a:xfrm>
              <a:off x="2209680" y="1555560"/>
              <a:ext cx="670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depicts the viewing geometry for all selected pixels and their successive sequences.  Red box indicates the current sequen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76320" y="1174680"/>
              <a:ext cx="2044440" cy="21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49320" y="3657600"/>
            <a:ext cx="8866080" cy="2166840"/>
            <a:chOff x="49320" y="3657600"/>
            <a:chExt cx="8866080" cy="2166840"/>
          </a:xfrm>
        </p:grpSpPr>
        <p:sp>
          <p:nvSpPr>
            <p:cNvPr id="123" name=""/>
            <p:cNvSpPr/>
            <p:nvPr/>
          </p:nvSpPr>
          <p:spPr>
            <a:xfrm>
              <a:off x="3048120" y="3962520"/>
              <a:ext cx="5867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shows the selected parameter as a function of viewing geometry.  The X-axis is either the viewing angle or the phase angle or the off-glint ang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49320" y="3657600"/>
              <a:ext cx="2922480" cy="216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Data Analysis (3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18288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an area is selected and the current parameter is non-directional or no angle is selected, one shows an histogram and a cumulative histogram of the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29257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napol: Customize parameter list (1/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685800"/>
            <a:ext cx="2590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POLDER products offer a very large list of parameters, many of them are not useful for most us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625840" y="604800"/>
            <a:ext cx="64418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1T06:00:20Z</dcterms:created>
  <dc:creator>Francois Marie Bréon</dc:creator>
  <dc:description/>
  <dc:language>en-US</dc:language>
  <cp:lastModifiedBy>François-Marie Bréon</cp:lastModifiedBy>
  <dcterms:modified xsi:type="dcterms:W3CDTF">2003-06-04T20:35:14Z</dcterms:modified>
  <cp:revision>23</cp:revision>
  <dc:subject/>
  <dc:title>Anapol : Starting Window</dc:title>
</cp:coreProperties>
</file>